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A04-305C-4469-ADD1-AA8186C4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E37-C72A-4153-A937-7E16214C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1CE-2455-462C-99E4-4AB41F61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51F6-BF41-4A9A-860F-491148D9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514-F3F5-49A8-8AD7-46356287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C0B-A992-4E45-8C21-B7A2531E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18B-FFE2-4673-82FF-A0D5FBFE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C72-BAE9-4E1E-AFAE-4E621044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31AE-82E0-4EC2-BCA8-E3EB17CA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3D8-A99C-4017-9059-FFE17A40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C0F-B4C8-42F4-ACC8-DE7F2B49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76D-6644-4012-8823-35572787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461B-781A-4334-AF6D-3BCDE0FE77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ff"/>
                </a:solidFill>
                <a:latin typeface="Calibri"/>
              </a:rPr>
              <a:t>Мамаев курган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Documents and Settings\Admin\Рабочий стол\mamaev-kurgan-19.jpg"/>
          <p:cNvPicPr/>
          <p:nvPr/>
        </p:nvPicPr>
        <p:blipFill>
          <a:blip r:embed="rId1"/>
          <a:stretch/>
        </p:blipFill>
        <p:spPr>
          <a:xfrm>
            <a:off x="22320" y="714240"/>
            <a:ext cx="90993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Documents and Settings\Admin\Рабочий стол\mamaev-kurgan-23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Documents and Settings\Admin\Рабочий стол\mamaev-kurgan-52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Documents and Settings\Admin\Рабочий стол\mamaev-kurgan-51.jpg"/>
          <p:cNvPicPr/>
          <p:nvPr/>
        </p:nvPicPr>
        <p:blipFill>
          <a:blip r:embed="rId1"/>
          <a:stretch/>
        </p:blipFill>
        <p:spPr>
          <a:xfrm>
            <a:off x="257184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Documents and Settings\Admin\Рабочий стол\mamaev-kurgan-50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Documents and Settings\Admin\Рабочий стол\mamaev-kurgan-47.jpg"/>
          <p:cNvPicPr/>
          <p:nvPr/>
        </p:nvPicPr>
        <p:blipFill>
          <a:blip r:embed="rId1"/>
          <a:stretch/>
        </p:blipFill>
        <p:spPr>
          <a:xfrm>
            <a:off x="177840" y="500040"/>
            <a:ext cx="88948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Documents and Settings\Admin\Рабочий стол\mamaev-kurgan-11.jpg"/>
          <p:cNvPicPr/>
          <p:nvPr/>
        </p:nvPicPr>
        <p:blipFill>
          <a:blip r:embed="rId1"/>
          <a:srcRect l="0" t="0" r="0" b="16218"/>
          <a:stretch/>
        </p:blipFill>
        <p:spPr>
          <a:xfrm>
            <a:off x="2050920" y="0"/>
            <a:ext cx="545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D:\Documents and Settings\Admin\Рабочий стол\club-hotels.ruмузейпамять.jpg"/>
          <p:cNvPicPr/>
          <p:nvPr/>
        </p:nvPicPr>
        <p:blipFill>
          <a:blip r:embed="rId1"/>
          <a:stretch/>
        </p:blipFill>
        <p:spPr>
          <a:xfrm>
            <a:off x="127080" y="469800"/>
            <a:ext cx="888984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Documents and Settings\Admin\Рабочий стол\mamaev-kurgan-11.jpg"/>
          <p:cNvPicPr/>
          <p:nvPr/>
        </p:nvPicPr>
        <p:blipFill>
          <a:blip r:embed="rId1"/>
          <a:srcRect l="0" t="0" r="0" b="16218"/>
          <a:stretch/>
        </p:blipFill>
        <p:spPr>
          <a:xfrm>
            <a:off x="1979640" y="0"/>
            <a:ext cx="54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:\Documents and Settings\Admin\Рабочий стол\kurgan.jpg"/>
          <p:cNvPicPr/>
          <p:nvPr/>
        </p:nvPicPr>
        <p:blipFill>
          <a:blip r:embed="rId1"/>
          <a:stretch/>
        </p:blipFill>
        <p:spPr>
          <a:xfrm>
            <a:off x="176040" y="214200"/>
            <a:ext cx="8823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Documents and Settings\Admin\Рабочий стол\mamaev-kurgan-1.jpg"/>
          <p:cNvPicPr/>
          <p:nvPr/>
        </p:nvPicPr>
        <p:blipFill>
          <a:blip r:embed="rId1"/>
          <a:stretch/>
        </p:blipFill>
        <p:spPr>
          <a:xfrm>
            <a:off x="135000" y="500040"/>
            <a:ext cx="887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Documents and Settings\Admin\Рабочий стол\mamaev-kurgan-9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:\Documents and Settings\Admin\Рабочий стол\mamaev-kurgan-6.jpg"/>
          <p:cNvPicPr/>
          <p:nvPr/>
        </p:nvPicPr>
        <p:blipFill>
          <a:blip r:embed="rId1"/>
          <a:stretch/>
        </p:blipFill>
        <p:spPr>
          <a:xfrm>
            <a:off x="324000" y="333360"/>
            <a:ext cx="8820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Documents and Settings\Admin\Рабочий стол\mamaev-kurgan-10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Documents and Settings\Admin\Рабочий стол\mamaev-kurgan-13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Documents and Settings\Admin\Рабочий стол\mamaev-kurgan-15.jpg"/>
          <p:cNvPicPr/>
          <p:nvPr/>
        </p:nvPicPr>
        <p:blipFill>
          <a:blip r:embed="rId1"/>
          <a:stretch/>
        </p:blipFill>
        <p:spPr>
          <a:xfrm>
            <a:off x="2476440" y="0"/>
            <a:ext cx="45244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5T20:30:13Z</dcterms:created>
  <dc:creator>Admin</dc:creator>
  <dc:description/>
  <dc:language>en-US</dc:language>
  <cp:lastModifiedBy>Admin</cp:lastModifiedBy>
  <dcterms:modified xsi:type="dcterms:W3CDTF">2022-04-22T21:01:24Z</dcterms:modified>
  <cp:revision>20</cp:revision>
  <dc:subject/>
  <dc:title>Мамаев курган</dc:title>
</cp:coreProperties>
</file>