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A479-BC3F-4107-93B0-90721B38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3B35-EA8C-4D90-9F02-304916B2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137F-E607-428F-892B-AF118D80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B7B-A0AF-44D5-BB33-A192F797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E12A-4E10-460E-B64E-50D56B18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85E0-93C3-4782-A58E-5F3D4FD5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466D-5A12-4296-92A9-DFA601ED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3490-5F5C-4429-BDE1-696FBA44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4BAC-F8BC-42B8-96DF-47F191A1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853C-642B-419E-A9EA-490BB494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38B9-65A0-4D6C-8903-76D6BA58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A1AD-D57A-4B3B-9A50-EB699B73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7000-F8E5-4792-A954-E87FF2C9FF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ff"/>
                </a:solidFill>
                <a:latin typeface="Calibri"/>
              </a:rPr>
              <a:t>Мамаев курган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Documents and Settings\Admin\Рабочий стол\mamaev-kurgan-19.jpg"/>
          <p:cNvPicPr/>
          <p:nvPr/>
        </p:nvPicPr>
        <p:blipFill>
          <a:blip r:embed="rId1"/>
          <a:stretch/>
        </p:blipFill>
        <p:spPr>
          <a:xfrm>
            <a:off x="22320" y="714240"/>
            <a:ext cx="90993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Documents and Settings\Admin\Рабочий стол\mamaev-kurgan-23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Documents and Settings\Admin\Рабочий стол\mamaev-kurgan-52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Documents and Settings\Admin\Рабочий стол\mamaev-kurgan-51.jpg"/>
          <p:cNvPicPr/>
          <p:nvPr/>
        </p:nvPicPr>
        <p:blipFill>
          <a:blip r:embed="rId1"/>
          <a:stretch/>
        </p:blipFill>
        <p:spPr>
          <a:xfrm>
            <a:off x="257184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Documents and Settings\Admin\Рабочий стол\mamaev-kurgan-50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Documents and Settings\Admin\Рабочий стол\mamaev-kurgan-47.jpg"/>
          <p:cNvPicPr/>
          <p:nvPr/>
        </p:nvPicPr>
        <p:blipFill>
          <a:blip r:embed="rId1"/>
          <a:stretch/>
        </p:blipFill>
        <p:spPr>
          <a:xfrm>
            <a:off x="177840" y="500040"/>
            <a:ext cx="88948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Documents and Settings\Admin\Рабочий стол\mamaev-kurgan-11.jpg"/>
          <p:cNvPicPr/>
          <p:nvPr/>
        </p:nvPicPr>
        <p:blipFill>
          <a:blip r:embed="rId1"/>
          <a:srcRect l="0" t="0" r="0" b="16218"/>
          <a:stretch/>
        </p:blipFill>
        <p:spPr>
          <a:xfrm>
            <a:off x="2050920" y="0"/>
            <a:ext cx="545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D:\Documents and Settings\Admin\Рабочий стол\club-hotels.ruмузейпамять.jpg"/>
          <p:cNvPicPr/>
          <p:nvPr/>
        </p:nvPicPr>
        <p:blipFill>
          <a:blip r:embed="rId1"/>
          <a:stretch/>
        </p:blipFill>
        <p:spPr>
          <a:xfrm>
            <a:off x="127080" y="469800"/>
            <a:ext cx="888984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Documents and Settings\Admin\Рабочий стол\mamaev-kurgan-11.jpg"/>
          <p:cNvPicPr/>
          <p:nvPr/>
        </p:nvPicPr>
        <p:blipFill>
          <a:blip r:embed="rId1"/>
          <a:srcRect l="0" t="0" r="0" b="16218"/>
          <a:stretch/>
        </p:blipFill>
        <p:spPr>
          <a:xfrm>
            <a:off x="1979640" y="0"/>
            <a:ext cx="54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:\Documents and Settings\Admin\Рабочий стол\kurgan.jpg"/>
          <p:cNvPicPr/>
          <p:nvPr/>
        </p:nvPicPr>
        <p:blipFill>
          <a:blip r:embed="rId1"/>
          <a:stretch/>
        </p:blipFill>
        <p:spPr>
          <a:xfrm>
            <a:off x="176040" y="214200"/>
            <a:ext cx="8823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Documents and Settings\Admin\Рабочий стол\mamaev-kurgan-1.jpg"/>
          <p:cNvPicPr/>
          <p:nvPr/>
        </p:nvPicPr>
        <p:blipFill>
          <a:blip r:embed="rId1"/>
          <a:stretch/>
        </p:blipFill>
        <p:spPr>
          <a:xfrm>
            <a:off x="135000" y="500040"/>
            <a:ext cx="88740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Documents and Settings\Admin\Рабочий стол\mamaev-kurgan-9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:\Documents and Settings\Admin\Рабочий стол\mamaev-kurgan-6.jpg"/>
          <p:cNvPicPr/>
          <p:nvPr/>
        </p:nvPicPr>
        <p:blipFill>
          <a:blip r:embed="rId1"/>
          <a:stretch/>
        </p:blipFill>
        <p:spPr>
          <a:xfrm>
            <a:off x="324000" y="333360"/>
            <a:ext cx="88200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Documents and Settings\Admin\Рабочий стол\mamaev-kurgan-10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Documents and Settings\Admin\Рабочий стол\mamaev-kurgan-13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Documents and Settings\Admin\Рабочий стол\mamaev-kurgan-15.jpg"/>
          <p:cNvPicPr/>
          <p:nvPr/>
        </p:nvPicPr>
        <p:blipFill>
          <a:blip r:embed="rId1"/>
          <a:stretch/>
        </p:blipFill>
        <p:spPr>
          <a:xfrm>
            <a:off x="2476440" y="0"/>
            <a:ext cx="452448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15T20:30:13Z</dcterms:created>
  <dc:creator>Admin</dc:creator>
  <dc:description/>
  <dc:language>en-US</dc:language>
  <cp:lastModifiedBy>Admin</cp:lastModifiedBy>
  <dcterms:modified xsi:type="dcterms:W3CDTF">2022-04-22T21:01:24Z</dcterms:modified>
  <cp:revision>20</cp:revision>
  <dc:subject/>
  <dc:title>Мамаев курган</dc:title>
</cp:coreProperties>
</file>