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D0E-91C9-4DA0-A993-BA6FC0F4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AD7-421E-47FB-A3E4-85A58FAC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4D2-E45F-4A12-B10B-F76F817B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014-BD35-4394-AAE3-B55D8D52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425-860F-417D-B441-4E3BE294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066-C516-45FD-8770-75B07E7E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723-4A6B-455F-84B5-DE4DF5C8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E3E-162A-48B3-BD89-1676E572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F33-7EAB-4CAB-8EB2-BE38803F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15C-62AC-49DA-9A58-48E2EFAB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3DF-E983-4291-B1A8-F466DC49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C39-1376-4A1B-9252-561D2B34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CDCA-0BF4-4C2F-BF7B-53DBC57A22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Calibri"/>
              </a:rPr>
              <a:t>Мамаев курга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mamaev-kurgan-19.jpg"/>
          <p:cNvPicPr/>
          <p:nvPr/>
        </p:nvPicPr>
        <p:blipFill>
          <a:blip r:embed="rId1"/>
          <a:stretch/>
        </p:blipFill>
        <p:spPr>
          <a:xfrm>
            <a:off x="22320" y="714240"/>
            <a:ext cx="90993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Documents and Settings\Admin\Рабочий стол\mamaev-kurgan-2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Documents and Settings\Admin\Рабочий стол\mamaev-kurgan-52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ocuments and Settings\Admin\Рабочий стол\mamaev-kurgan-51.jpg"/>
          <p:cNvPicPr/>
          <p:nvPr/>
        </p:nvPicPr>
        <p:blipFill>
          <a:blip r:embed="rId1"/>
          <a:stretch/>
        </p:blipFill>
        <p:spPr>
          <a:xfrm>
            <a:off x="25718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Documents and Settings\Admin\Рабочий стол\mamaev-kurgan-5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Documents and Settings\Admin\Рабочий стол\mamaev-kurgan-47.jpg"/>
          <p:cNvPicPr/>
          <p:nvPr/>
        </p:nvPicPr>
        <p:blipFill>
          <a:blip r:embed="rId1"/>
          <a:stretch/>
        </p:blipFill>
        <p:spPr>
          <a:xfrm>
            <a:off x="177840" y="500040"/>
            <a:ext cx="8894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Documents and Settings\Admin\Рабочий стол\mamaev-kurgan-11.jpg"/>
          <p:cNvPicPr/>
          <p:nvPr/>
        </p:nvPicPr>
        <p:blipFill>
          <a:blip r:embed="rId1"/>
          <a:srcRect l="0" t="0" r="0" b="16218"/>
          <a:stretch/>
        </p:blipFill>
        <p:spPr>
          <a:xfrm>
            <a:off x="2050920" y="0"/>
            <a:ext cx="54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D:\Documents and Settings\Admin\Рабочий стол\club-hotels.ruмузейпамять.jpg"/>
          <p:cNvPicPr/>
          <p:nvPr/>
        </p:nvPicPr>
        <p:blipFill>
          <a:blip r:embed="rId1"/>
          <a:stretch/>
        </p:blipFill>
        <p:spPr>
          <a:xfrm>
            <a:off x="127080" y="469800"/>
            <a:ext cx="888984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Documents and Settings\Admin\Рабочий стол\mamaev-kurgan-11.jpg"/>
          <p:cNvPicPr/>
          <p:nvPr/>
        </p:nvPicPr>
        <p:blipFill>
          <a:blip r:embed="rId1"/>
          <a:srcRect l="0" t="0" r="0" b="16218"/>
          <a:stretch/>
        </p:blipFill>
        <p:spPr>
          <a:xfrm>
            <a:off x="1979640" y="0"/>
            <a:ext cx="54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:\Documents and Settings\Admin\Рабочий стол\kurgan.jpg"/>
          <p:cNvPicPr/>
          <p:nvPr/>
        </p:nvPicPr>
        <p:blipFill>
          <a:blip r:embed="rId1"/>
          <a:stretch/>
        </p:blipFill>
        <p:spPr>
          <a:xfrm>
            <a:off x="176040" y="214200"/>
            <a:ext cx="882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Documents and Settings\Admin\Рабочий стол\mamaev-kurgan-1.jpg"/>
          <p:cNvPicPr/>
          <p:nvPr/>
        </p:nvPicPr>
        <p:blipFill>
          <a:blip r:embed="rId1"/>
          <a:stretch/>
        </p:blipFill>
        <p:spPr>
          <a:xfrm>
            <a:off x="135000" y="500040"/>
            <a:ext cx="887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Admin\Рабочий стол\mamaev-kurgan-9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:\Documents and Settings\Admin\Рабочий стол\mamaev-kurgan-6.jpg"/>
          <p:cNvPicPr/>
          <p:nvPr/>
        </p:nvPicPr>
        <p:blipFill>
          <a:blip r:embed="rId1"/>
          <a:stretch/>
        </p:blipFill>
        <p:spPr>
          <a:xfrm>
            <a:off x="324000" y="333360"/>
            <a:ext cx="8820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Documents and Settings\Admin\Рабочий стол\mamaev-kurgan-10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Admin\Рабочий стол\mamaev-kurgan-1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Documents and Settings\Admin\Рабочий стол\mamaev-kurgan-15.jpg"/>
          <p:cNvPicPr/>
          <p:nvPr/>
        </p:nvPicPr>
        <p:blipFill>
          <a:blip r:embed="rId1"/>
          <a:stretch/>
        </p:blipFill>
        <p:spPr>
          <a:xfrm>
            <a:off x="2476440" y="0"/>
            <a:ext cx="45244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5T20:30:13Z</dcterms:created>
  <dc:creator>Admin</dc:creator>
  <dc:description/>
  <dc:language>en-US</dc:language>
  <cp:lastModifiedBy>Admin</cp:lastModifiedBy>
  <dcterms:modified xsi:type="dcterms:W3CDTF">2022-04-22T21:01:24Z</dcterms:modified>
  <cp:revision>20</cp:revision>
  <dc:subject/>
  <dc:title>Мамаев курган</dc:title>
</cp:coreProperties>
</file>